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706-730E-4CC6-8A88-8081B110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DC1-BADD-4F76-B11B-5168802F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F333E-F8E1-44E3-B0F2-9BF9C5E5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E56EC-DB24-4497-B2E0-0E50E9E1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CAA8A-EEB5-4950-82BE-00E26350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FB89B-59F2-4C1A-8B2C-0144BEF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BAA30-EBBA-4C53-A98C-D2FA8F28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56B0F-622B-42F6-8C6A-F2F504D0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B6D56-C0AE-4E5A-970E-F6D92EE6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44D57-B376-411A-B7D0-7AAA6F99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675F3-7691-40E4-A036-68BA355A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8E458-BB7C-43CA-8DA8-19DF1FAD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D4F-B0AA-4AF4-BDF5-0C8A5B11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3A7B7-61C0-4D0A-A85F-0B2934E4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14AE2-A0EB-4B6B-B181-193C0ED2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84FDF-E558-4B98-829E-74A390F1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3958F-B140-4F02-BBFC-C63C29EC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2CCFE-6C02-4636-A1D3-A81ACC68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6A2BE-9B7B-41B0-8C89-8E8A8E7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1C4F8-8BEF-4167-9DEA-28182A9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4E8F8-42E5-43EB-91C3-59AC4C5F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5EB15-ABC7-45E4-9903-D4255512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91C49-0025-4F7A-84A0-026D189F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AE7-E0BA-4581-ABBF-3C695708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E3639-126F-4538-9ABE-7D64863B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1B2B23-835E-4C41-92C9-0A0DB07B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CBE777-3842-463C-B683-3DFCF126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816B34-4F53-4896-9E86-DFFD06A5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F24C45-EDC6-43A6-A3AE-B0BC74D7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F5C29A-3D93-45D1-BBA8-FE26A018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7AC63B-8693-47CE-B0C6-D4BB70B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6A9A92-248A-46EF-AB8B-9CE481E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7D88E1-9272-4C3A-AAF1-A303B71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6E2097-56C3-40BB-A837-187C058F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656EA7-9D33-465A-8841-C9F1E91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F640D5-4F71-4B24-9564-DB71C67B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CBDE1B-DDA9-402E-B02C-7E7A174B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9B0E5-8E9A-4E8C-A3AA-18112D74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EDD4A-F5B7-43EC-A21F-8E97C2C0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DDE4B-80B7-4E11-8868-D2053B7C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8B9BD-CD87-46C4-8938-BCBD55D8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07FEC-A540-4BD2-A013-85A6172E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50490-8352-4C84-8CC8-B095AEF0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365F8-BF88-434A-AF36-7A53BEB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9E554-6F8C-4C89-9458-1DEC6BC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C86BF-E80A-4B7B-9295-BBFDAD8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2087F-1C6D-449A-AAFB-27E9D855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3E995-317D-4E7A-B174-A8699D64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BC193-A96B-4E05-922C-71BEACB2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F466F6-2A0D-42A4-B3B6-4132FEBB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EE343B-5404-4B10-B945-7CF3E509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318850-1546-4052-A814-89F1DF89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2DDCEF-E2A2-4C6D-B718-557D5D58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906AC5-D5AD-4B4B-B256-A51B2A0D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DBF105-1003-4DAC-BCC9-0C5049E5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E58C2D-6577-447B-B2BF-F6A8B0E6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8FA4BA-E8A0-4651-AB42-6FFB39EB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3CDACB-4EE8-48A2-8049-26C93E04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0F7079-0359-4423-87CC-6515E57C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351FA7-112E-4F09-9A3D-0B6F324E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883F48-7E4E-435E-B579-7FD5A036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07ABF-A93A-4256-98D7-E757715D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1C255-9CD6-4234-A170-26AFF751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FA4C8-0888-41A3-AFF1-F362FED9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202D2-1D4F-4382-B728-2973A0D2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9012E-D905-4297-9FAD-664D383A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9C092-CAF2-4F7B-9D85-5DA85F5E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4F92A-EF6F-4000-B553-5D9C29B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CBDEE-D93E-4321-90E8-A53B7B2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628AC-42CE-43F0-9257-45130FC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75914-7F96-46E9-8CD0-5918AA95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B3495-613E-4DE9-9FF0-2615C738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CA2BA-BED0-4EC5-A73D-7C771F66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4B3FE-B02E-471B-8026-AD6BE89B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FA002-DEF6-4907-BFF4-CEE0274B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D70BA-E2D6-47F9-95B6-1A947B19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A7167-72F0-4CBE-86D4-FF351030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5C919-8C4A-4D7D-8A2B-61BB8B33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91EF4-FB28-45D4-94B1-C6ABF213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7A1F3-90D9-4BD3-B2EB-2B1268AE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40B6A-6D5A-47CA-9A86-2E08E3FB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CD218-1EB8-4C37-A8DC-5235942C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BC430-6A38-41D9-A9F8-1ED88F7C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DFE76-FAB5-4BDB-BA76-2E753FF9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A75B2-B0B0-4B17-A3B2-EA9913FF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56AA3-F3D8-4A31-891F-F747A46C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2D28BE-411B-4144-9456-573550D9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6E2AA-C2BF-4114-AF69-CA91159C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60FD4-61BF-40B0-9FA3-C330D807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9F1D3-6F3D-4B5C-BCFE-2DAA67B4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FC0B3B-7E4D-4811-BE97-0AA575D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4AE28-5A30-4B95-9A55-603AFB2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D3C-9A45-48C9-920B-EBC26BD5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7B0E8-C59A-4A22-90F2-AFC9132F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4CF9E-1552-4B72-ABC1-EFDF9CF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0820F-C6A1-4B03-982B-91574D5A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47767-D8C2-40A0-A079-172A8B7B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531FE-B176-44D8-B2DF-366137EF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27199-3020-49E9-AB93-849B8D1E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F2756-70F9-447E-9643-A1EDC0AE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4BF00-650C-4A6B-89EB-06689C9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B945B-123C-4CF1-BE78-844048C7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B11C5-81C9-40CF-A7AD-556514BB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CF3EA-580F-4B36-B1F4-89F95512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25EE8-6100-48A4-982A-B9BC318A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2433A-FE93-45C1-9535-541945EB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B3E23-237C-4E84-BB02-4495FD16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CC127-8AD2-4316-832F-37DD761E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B184E6-45E9-451D-A7E2-83E75A02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49CD8-1A36-4DCD-A20A-054379FF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25E82-D3ED-4C6A-AFC3-17FB9E1D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88BAA-6ECD-4436-9C0B-24BF86E1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FFB4A8-89FE-4216-8351-2537CEF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65EA6-D66F-42E2-B6D2-B57DA968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56831-CC31-45E4-8271-42827E51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0C261-D3EA-4A85-A5E7-7F70F604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13994-7C4C-44D3-8831-C485270C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2F87D-A074-4001-A6F7-68FAD0B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3A30B-EF91-467E-AFB8-CD31740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B66CD-D967-4543-9BAC-51929836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BD158-A543-402C-8301-7BEEBC4F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808D1-85C0-4A53-8A7B-96C6F2C6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8EF23-857E-470D-BD81-640C1115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C76D1-8FB1-4B4F-A6FE-4C90AA38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ACBA1-3EFD-4CB1-ACB0-162F75A6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28D96-EEFE-43ED-9053-0B4287B4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9B5B95-D20E-4CAD-8308-5A8C1A9F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56BB96-DBAB-47EC-8DDD-A9F05730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F2B97-334A-4AF0-BCF0-86C179E0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C99AE-0AE0-4103-8ED9-432BD46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7208A-CF69-47CD-8D5B-E18168E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65DD65-DDE9-43B0-893E-51600B61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683369-CE65-442C-AEF2-39E4A893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FAC8A-29FA-40E1-B24D-B3C20F75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DAAB42-2355-4662-8209-3A8223F1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0458B2-DC3D-4DB3-9DBF-55667EB4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51FE32-103C-490F-896F-244635F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9C23CA-000A-44BF-93F3-C736EBED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D92AC-7A41-4AA2-A114-360F1F4D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5A3C23-F9FB-458A-AB6E-88721E04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0F5C27-52DA-45FB-9AD2-E84999A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BB794-DAA3-470B-9D3C-B5928B31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A8F29B-3CF7-44A2-89F7-9C66D370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076FA-3CEC-47CC-8C80-05658E29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6FC1D1-51EB-4DDB-A631-2D4EDE95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149520-534A-450E-AB89-8A8776AB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FBFBC-2364-44C6-A962-D88AB106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E7132-4515-4AB4-900E-223E3BA7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C1305-ED84-466C-A03B-724B48C7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8A9CB-A80C-42FD-A23C-33804D97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E8B1D-D50B-480E-8882-83AFD741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D15-B6D4-41C1-A666-E62ABFC1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1460C-A9B2-4AB5-8401-B23CCB8F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5AF34-C9AA-4F1F-9487-E8B42D8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C8537-5F8D-490F-9325-2AA8367B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0A132-D773-4D91-94E6-A4352856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1650D-113B-425F-8A2D-BDC47455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3B5D3-475F-4BB6-A444-6C4CF06C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04769-F16C-4639-8145-DFA4A016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01BE9-051D-498B-B7C9-6F660F9C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97EA9-AFD6-4DCB-A75F-F4A9F9E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CC495-5118-4FE4-A646-407A971A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C25-DDB2-4F6C-AF3F-B6F848ED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D9827-6DF9-4A47-8E0B-EAD16254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322F6-ECFF-4604-AB86-CD358455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3AE8C-AE2E-4125-B8C4-90DC54B8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9847E-983A-4A69-A2C9-343505B1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57C48-0504-4D87-8240-436C258C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8F0BC-DAFA-4DA6-A56F-C95F2029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A82F9-E316-41B2-8C95-C471F92A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CC4C3-F76D-4BC4-9072-FFC19989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E8E7A-E431-4A4F-AF10-2C435F65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F2D-44AC-4955-B083-228815B9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6E9-43A9-425E-801C-D1B5BF52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B71CAD-D101-489B-85E9-F7FD341B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216E47-DE71-4CF5-A750-7D9F354D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DF3B3-99FB-4262-BA42-668856FF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93A088-0CA9-4D72-A7F3-7332211A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E8145-EDC1-4821-9938-AFE31F16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997415-3D27-4757-9F90-E8CA87E2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108BA1-A911-4650-AF38-144A03A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E0F04A-33B3-434B-85AC-884CCB3F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F091E4-1FA6-4622-A59B-FD512909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8A6-9110-4578-8A57-9BB5CF5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7B83B0-5398-478C-9516-9857987B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EF8659-172C-451F-844D-2E879A8B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21BE5-0391-43A2-A7CD-7BE98616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98887C-C2DD-4262-BA37-F874C4DE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8A00D2-F695-408A-B663-D49BEC3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8DB2A6-57AF-4B98-A348-9354B5CD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1BCCBE-7985-443A-86FD-B1FCA499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92CE5F-D149-4A19-86F2-22128396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6FAA5F-1B01-4761-A46B-9831263C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E1A36D-C821-4434-AB89-DA37F3D5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E9A-9810-482B-AD91-708B07A9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EDB8BB-DFFA-4F18-B13F-E665B5E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6EC48D-9D04-4866-8C19-1BB0109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9DEFB6-9309-4C8C-B663-BF942E0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06EFB8-0463-4FE9-B729-D50A6C76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DD72D1-7D8F-48F6-8A70-7267A6F2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544394-BFE4-4951-8798-7E713F67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47E7C9-02CE-4AE1-88F0-5E184F98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5FD1A2-C7A7-4EB2-BD0F-B6522BDF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99B1BA-BA59-4B89-B7CF-66FD9F90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2720B3-129F-4678-A9B5-050C309D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2CF-DD0D-4759-8452-1076D14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D6315E-CAC4-4630-AA5A-B7F5AC7D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F4A317-2BB8-4815-8D67-36755C6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D18FC1-07D8-4C18-8379-7A63A6B5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E6DBEE-1B06-4842-9A51-FD9EC660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84DC0A-092A-4E85-876F-84970A44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90029-BF24-449B-A7DD-295143EE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11F6B-1233-41C3-AE8C-63B60B19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A25E3-65A2-4F60-945E-AF9B7BD6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CA095-AE8A-48DC-83EA-929D4CA5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E88CF-B0AE-46E1-9B88-C77691F9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605D-50BC-4E5B-8066-C7E5A1B6D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4AE1-1609-4D6D-BB8C-995967E87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B801-D24B-4BE5-9A50-4258A08EA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C001-B67D-47A7-BE42-75C39C5B7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504F-42E3-483D-8A9E-243D06D15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9D5D-A292-4E42-87F5-66D36C281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109F-8BC5-4B45-A1D0-554E77CC3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F32E-929D-4D29-90F4-844F85359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8D29-6723-4504-BA9F-803980AAA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E5A3-136A-49E4-B59C-649442BA1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141D-DD3A-45B0-A10F-3E976A864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EEEE-1EEC-49D0-B0D1-CEA4191D1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F5FA-D5EC-4314-865C-84795D10D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84E7-4702-4256-9FCD-AC3993C55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7C28-D573-4E1E-8D16-530DD750D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FA2B-9C3A-48BC-B4D9-E9FA7B2B9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64B1-8631-427D-BD4C-E434941DE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83F-4F10-4FEF-8899-23246C416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3366"/>
                </a:solidFill>
                <a:latin typeface="Rockwell"/>
              </a:rPr>
              <a:t>Stand Up for </a:t>
            </a:r>
            <a:br>
              <a:rPr sz="2500"/>
            </a:br>
            <a:r>
              <a:rPr b="0" lang="en-US" sz="2500" spc="-1" strike="noStrike">
                <a:solidFill>
                  <a:srgbClr val="663366"/>
                </a:solidFill>
                <a:latin typeface="Rockwell"/>
              </a:rPr>
              <a:t>Martin Luther King</a:t>
            </a:r>
            <a:endParaRPr b="0" lang="en-US" sz="25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Lyrics by Dr. Holly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12" name="Picture 4" descr="ihaveadream.gif"/>
          <p:cNvPicPr/>
          <p:nvPr/>
        </p:nvPicPr>
        <p:blipFill>
          <a:blip r:embed="rId1"/>
          <a:stretch/>
        </p:blipFill>
        <p:spPr>
          <a:xfrm>
            <a:off x="411120" y="1266840"/>
            <a:ext cx="8288280" cy="2065320"/>
          </a:xfrm>
          <a:prstGeom prst="rect">
            <a:avLst/>
          </a:prstGeom>
          <a:ln w="0">
            <a:noFill/>
          </a:ln>
        </p:spPr>
      </p:pic>
      <p:pic>
        <p:nvPicPr>
          <p:cNvPr id="913" name="HE1-26StandUpForMLKing.mp3" descr=""/>
          <p:cNvPicPr/>
          <p:nvPr/>
        </p:nvPicPr>
        <p:blipFill>
          <a:blip r:embed="rId2"/>
          <a:stretch/>
        </p:blipFill>
        <p:spPr>
          <a:xfrm>
            <a:off x="88920" y="532764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7" descr=""/>
          <p:cNvPicPr/>
          <p:nvPr/>
        </p:nvPicPr>
        <p:blipFill>
          <a:blip r:embed="rId1"/>
          <a:stretch/>
        </p:blipFill>
        <p:spPr>
          <a:xfrm>
            <a:off x="120600" y="326880"/>
            <a:ext cx="3427560" cy="3353040"/>
          </a:xfrm>
          <a:prstGeom prst="rect">
            <a:avLst/>
          </a:prstGeom>
          <a:ln w="0">
            <a:noFill/>
          </a:ln>
        </p:spPr>
      </p:pic>
      <p:pic>
        <p:nvPicPr>
          <p:cNvPr id="915" name="Rectangle 9" descr=""/>
          <p:cNvPicPr/>
          <p:nvPr/>
        </p:nvPicPr>
        <p:blipFill>
          <a:blip r:embed="rId2"/>
          <a:stretch/>
        </p:blipFill>
        <p:spPr>
          <a:xfrm>
            <a:off x="2444760" y="3333600"/>
            <a:ext cx="653400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1596600"/>
            <a:ext cx="6181920" cy="308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o now we…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 up, stand up,</a:t>
            </a: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	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 up for Martin Luther King.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 up, stand up,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 up for Dr. King.</a:t>
            </a:r>
            <a:br>
              <a:rPr sz="2300"/>
            </a:br>
            <a:endParaRPr b="0" lang="en-US" sz="23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17" name="Picture Placeholder 5" descr=""/>
          <p:cNvPicPr/>
          <p:nvPr/>
        </p:nvPicPr>
        <p:blipFill>
          <a:blip r:embed="rId1"/>
          <a:srcRect l="0" t="1576" r="0" b="1576"/>
          <a:stretch/>
        </p:blipFill>
        <p:spPr>
          <a:xfrm>
            <a:off x="6802560" y="2374920"/>
            <a:ext cx="2057400" cy="203976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6802200" y="453564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" descr=""/>
          <p:cNvPicPr/>
          <p:nvPr/>
        </p:nvPicPr>
        <p:blipFill>
          <a:blip r:embed="rId1"/>
          <a:stretch/>
        </p:blipFill>
        <p:spPr>
          <a:xfrm>
            <a:off x="728640" y="299880"/>
            <a:ext cx="3340080" cy="3517920"/>
          </a:xfrm>
          <a:prstGeom prst="rect">
            <a:avLst/>
          </a:prstGeom>
          <a:ln w="0">
            <a:noFill/>
          </a:ln>
        </p:spPr>
      </p:pic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204920" y="2838600"/>
            <a:ext cx="7532640" cy="353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Dr. King wanted all of Americ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o be tolerant, fair, and free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e stood up for what he believed in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e stood up for you and for me.</a:t>
            </a:r>
            <a:br>
              <a:rPr sz="3200"/>
            </a:br>
            <a:endParaRPr b="0" lang="en-US" sz="32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"/>
          <p:cNvPicPr/>
          <p:nvPr/>
        </p:nvPicPr>
        <p:blipFill>
          <a:blip r:embed="rId1"/>
          <a:stretch/>
        </p:blipFill>
        <p:spPr>
          <a:xfrm>
            <a:off x="4240080" y="196920"/>
            <a:ext cx="3340080" cy="4165560"/>
          </a:xfrm>
          <a:prstGeom prst="rect">
            <a:avLst/>
          </a:prstGeom>
          <a:ln w="0">
            <a:noFill/>
          </a:ln>
        </p:spPr>
      </p:pic>
      <p:pic>
        <p:nvPicPr>
          <p:cNvPr id="922" name="Rectangle 9" descr=""/>
          <p:cNvPicPr/>
          <p:nvPr/>
        </p:nvPicPr>
        <p:blipFill>
          <a:blip r:embed="rId2"/>
          <a:stretch/>
        </p:blipFill>
        <p:spPr>
          <a:xfrm>
            <a:off x="792000" y="3176640"/>
            <a:ext cx="703584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80880" y="1895040"/>
            <a:ext cx="6181920" cy="31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Dr King taught us all to be dreamers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o one day the world could begin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o judge people based on their character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And not on the color of their skin.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24" name="Picture Placeholder 7" descr="globe.gif"/>
          <p:cNvPicPr/>
          <p:nvPr/>
        </p:nvPicPr>
        <p:blipFill>
          <a:blip r:embed="rId1"/>
          <a:srcRect l="0" t="5466" r="0" b="5466"/>
          <a:stretch/>
        </p:blipFill>
        <p:spPr>
          <a:xfrm>
            <a:off x="6802560" y="280512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Rectangle 9" descr=""/>
          <p:cNvPicPr/>
          <p:nvPr/>
        </p:nvPicPr>
        <p:blipFill>
          <a:blip r:embed="rId1"/>
          <a:stretch/>
        </p:blipFill>
        <p:spPr>
          <a:xfrm>
            <a:off x="792000" y="2998800"/>
            <a:ext cx="7035840" cy="3517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1474920" y="1222200"/>
            <a:ext cx="50418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21:08:27Z</dcterms:created>
  <dc:creator>Alex May</dc:creator>
  <dc:description/>
  <dc:language>en-US</dc:language>
  <cp:lastModifiedBy>Alex May</cp:lastModifiedBy>
  <dcterms:modified xsi:type="dcterms:W3CDTF">2013-12-26T22:07:32Z</dcterms:modified>
  <cp:revision>30</cp:revision>
  <dc:subject/>
  <dc:title>Stand Up for  Martin Luther King</dc:title>
</cp:coreProperties>
</file>